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E5F0-517E-4AFB-B3A0-43AE3ADB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DAAB-8FFD-465F-8830-D96D1D58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C544-17CA-41C4-BB04-006CB4C9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CBD2-572E-4789-BA7E-B1177AD7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28CA-EA25-44AC-B5A8-DA59779F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41BE-99B2-4A75-954B-FE0A6072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498E-E446-4E56-85E2-0631D757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E536-97AB-48E1-9C39-01CB3332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866D-D742-479A-8C46-C05BD861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83DA-DA2F-4948-B638-09AFECAF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E91B-297E-48F4-B868-E635C498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1798F-5046-46D6-8823-D15F9F4A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FF62-2E78-4D30-9C0B-D9590D75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DEBE-1F0C-4116-B7E6-035D00D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ED1B-DB50-4F52-A6F1-4685EB71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FCE9-47E3-4EC0-9B25-83A97C57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EE8B-1562-490D-A414-AE3763D6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5CB19-14EA-4351-A876-519021B0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C662-C7CB-4249-A411-B50DFD19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0E49A-70D5-467F-851F-2932191A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46A7-5AF3-447B-8145-96BEE08B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6477C-E624-42DF-B145-0BC64545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2FB7-0FE2-4562-8793-89C3772D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3303-8F5D-4CBC-BF77-9271BE90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23CC-F76C-4C98-928D-9A126A06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2936-1B13-4899-9391-0A9D86BC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AEB8A-D115-4D0D-8613-BC176849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5EBF-5875-41AF-913A-81D5923D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1EB8-AEC3-424E-97F2-86238E67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480E-7451-49BC-B301-DF485164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2943-3335-493B-AFDA-6E7D6272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A4315-C55A-4689-88F0-BA1AE2F9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15E4-C7D3-4A63-973A-3CA92CE5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0DC9-FC98-488C-8FB2-DDDA8BB5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50931-813E-4F82-945F-C7443A4C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5561-2FC2-4A03-9CBC-E88D5359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99BC-5ED5-4BDC-8DBB-E2891938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E852C-43A4-4057-8562-74272A53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F9E24-1C79-4A6D-9399-FB25E2C7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A791-0C50-4BD1-A5EF-8770F350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DF3C-333B-4918-A7D7-87B5946E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24FD2-CCA4-42CF-A63F-3F1885B0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6684-14DD-482B-9B5E-50B349DB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6E3C5-CDFF-47F3-9CAD-D96F633A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69F89-DBF7-49E3-AE48-3B4B02AF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8735F-21DE-415F-A8A3-D3CA7BBF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6523D-114A-497F-ABA9-0F1ADA24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92A99-7DE3-4EF8-A887-B05D2158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05A0E-4A6B-40BA-8E9A-E00FAB37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A5C54-4CF2-4B84-9199-2831156A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D92BB-7D53-42A1-9F9E-5C1257CA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F495-4239-44CB-BAAA-6E30F36F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C30C8-FC06-46B9-B97F-F4CE7E08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92264-AF76-460D-9FB0-6D3A5534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E152D-E366-4752-BB44-2FDAFC4F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DCB8-6C54-4CDE-94DF-3B2F2F78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ACA4-DEBE-4135-96C5-7EC40CF3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583B8-2958-42C2-AD2C-5D9047F2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80134-9124-48C2-9183-2CDF8154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5DC91-76DE-46DC-863D-A6EC7E9E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25541-0DEB-44A1-8405-989906B5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E57B2-6E7C-4957-804B-6C698336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AD455-E06F-4C6A-A14E-AE3423DC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DE5C5-5C77-44B8-993E-F42769E9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F51B0-75FD-4283-B840-FCB52E2A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F617E-4D9A-4A3D-BA00-B3CDB61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F5A5-A5A8-4EAE-82E4-3BC9A4E3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11C09-DD13-4747-A65B-7A9A47E4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30E9F-2805-43DF-A02E-6142D12B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ABD8A-C83C-4416-B306-850D9B58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F477A-D2D8-42D7-B9F0-98C98150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A418A-5C50-49C8-98D0-3F750E05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0BA1E-67C6-4854-918C-0ECB7127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804B4-7F2D-4DDE-B220-1437FB65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9FADF-8491-478A-AFE9-C18356CF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68C4B-9CC6-44B8-B578-1A54BA51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C0C3A-C254-41B9-B4E1-67F46DDD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2967-5A17-471D-A12D-1201D12A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6CBD1-527E-416C-9AF9-ADE027CB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D6139-513A-4194-8A6A-074BD1CB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5EDEF-AC6F-4A26-9621-F77DDF1B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550BB-5DAE-4806-9734-ED7000FF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FA968-330B-4A58-A891-6E34BC20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3019E-D42F-4B90-8804-0A0AD111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85179-739E-48A0-AE85-4FF44E74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90831-A36F-42B9-819A-A1F74729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496CB-A846-489A-AD2A-10C77E76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787E1-A90D-4859-9D29-4A648D5E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13A2-F9AE-4EE3-84A8-6C9AA9D9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CA01F-59F9-4C35-BA44-798F5EBB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72A90-8534-4618-8956-FA229A06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3FE07-8A4A-4BA0-B293-CD0704E4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C5412-D608-4650-9650-F1B0C354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C39B5-F649-42F9-9694-A80A9293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F6DE7-CD22-4054-BBD5-CD7B9261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0E7F3-36E2-43D7-AA2B-307830EF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73CCC2-682C-429D-BAE2-25D5A2F911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B2D57-2357-466C-AB8B-6C2161E683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775C6-424E-44FC-8BFD-70E2006F0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21AC3-BA4B-4A1A-A294-01E736CDF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4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5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275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3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E4367-FB13-4328-A2CE-99B54696E5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324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328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1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567F3-0C09-4676-8399-06695555242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0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A8678-B605-4842-9DB0-32DEF32C2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2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BC891-C762-43E9-8D14-718CF384F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2.layoutsparks.com/1/214259/spring-flowers-pink-pretty-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2.layoutsparks.com/1/214259/spring-flowers-pink-pretty-1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La Mod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Tahoma"/>
              </a:rPr>
              <a:t>By: Hannah Abdou and Lindsay Nag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l Oto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ñ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762760" y="5673600"/>
            <a:ext cx="75960" cy="11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Moda de Ni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ñ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638320" y="144756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Ana lleva un abrigo rosado, los pantalones negros y un rayas bolso rosado. Ella es muy boni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Isabella lleva un camisa azul y gris y los pantalones azules. Ella es 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mo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2743200" cy="41338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1066680" y="60199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60199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abe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1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362320" y="251460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l</a:t>
            </a:r>
            <a:r>
              <a:rPr b="0" lang="en-US" sz="9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Invier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2857680" cy="44766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371600" y="5715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Robert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  <a:ea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86400" y="11430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48320" y="106668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El muchacho es Roberto. Roberto lleva una camisa a cuadros blanca y amarilla y un su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é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00400" y="2286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1850f"/>
                </a:solidFill>
                <a:latin typeface="Tahoma"/>
              </a:rPr>
              <a:t>La Moda de n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3124080" y="29718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La primav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448920" cy="70581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380880" y="990720"/>
            <a:ext cx="3767400" cy="55432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666880" y="152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La moda de muj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5120" y="64911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B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0" y="10666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muchacha es Bella. Bella lleva un vestido rosado y rojo, una pulsera dorado y un collar blan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Vera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 moda de homb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abriela lleva un vestido azul,amarillo,y anaranjado,los zapatos cafe, una pulsera negra,y un collar amarill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54:40Z</dcterms:created>
  <dc:creator>abdouhan</dc:creator>
  <dc:description/>
  <dc:language>en-US</dc:language>
  <cp:lastModifiedBy/>
  <dcterms:modified xsi:type="dcterms:W3CDTF">2011-12-15T20:16:14Z</dcterms:modified>
  <cp:revision>23</cp:revision>
  <dc:subject/>
  <dc:title>La Moda</dc:title>
</cp:coreProperties>
</file>